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846-2CC5-4C13-846A-EED009230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DA1D-58B7-4899-BD8D-9C4EC94D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2CDCF5-2214-4241-BE94-327AA734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0A406B-E9F5-401D-A7B2-EB503B56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5C9B17-C540-47F8-BF0A-B79D30AE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40AE82-4F44-4E5F-9CC1-A8E516BB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F8A42-8F51-4CB5-81B4-EA58D7AA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2DB76-5AE7-41A3-BBBC-0F3E4C7A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02ACF4-5F82-4DBE-9C32-3C58BE85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F6656-0A98-46A3-965F-F2E25B31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063A6-B64E-45F0-A5E6-114D7A36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016EC3-313E-4A51-BCA5-50B5B256E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3FE8-F58C-4F28-A008-D31FFE01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CA2F8-9819-49A2-ACDF-F15E8A92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ABA571-BFD3-46C9-B2D7-4F9E76D2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3BEC40-16C7-41E5-870C-61ABA63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9AEB6-D556-4F45-8AF2-07EC6AEA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6C4AA3-903F-41CB-B050-06071BDD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01888-7BC9-4A48-BC79-EE61C1F9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5F17FC-2AD3-4690-9FB9-FDCC3E47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194D7C-5F3F-448F-AC0B-5550AA50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3C74B5-E27A-4293-B544-9A919EF3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F1F33F-2DBB-48E8-9AD3-E7C83394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88FE-E357-4D37-B488-D230AAFD5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0448A-D537-4AA5-AA68-49146422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FEFBC1-6BC4-42A5-B757-71C74F5C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EA5F839-5A5B-4F64-A351-E19D3EB2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27B162-3D97-430F-9822-AAD5EE9E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19D6DFF-41F3-4F9D-A7CA-44F1C898D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8E3BB69-1ADB-4A5B-996E-C2794CD03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345EF66-AF6F-4FF0-B21E-A816FEBC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5BA900-F4A1-4A54-91DD-628A20AC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6F0C058-1D57-477A-B09C-678FFE07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60DBE6-9217-4A24-8754-FBBD4CA8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38782DC-0536-40DF-9E84-EEC70DFB9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1A999F-1FD4-431A-91D4-29C837B5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A80BF8-E1D4-4F2F-97C9-BE1D6ADC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DA04D7-70B2-460A-B74F-04A5C3FE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A7F755-1E5C-49DB-9C29-851842CF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17E29D-AA67-429A-B2CC-85931EC2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254BF1-4CBC-4CCF-A574-C1DA6802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FEA2B-95F7-44A3-8642-29A87E35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9C6B0-6079-4231-A19B-FF340A80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82241-7840-4E48-A0DA-618F50DC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923059-596F-4A86-B50B-416B7CDD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C69A78-1DA0-47DF-9F95-B48F5D71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D0537-01C1-4D0F-BFFB-C703E988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E67BD-9C0C-421E-8B79-77E83A2D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B42409-04AC-4041-8037-DC214986E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E0AA76C-9D0D-4FC8-899D-A5728741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5CCB741-A5DB-4E80-88AE-F3A3E07C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F5D5F2-3CC2-43EB-B559-81690418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22FBACF-51A7-41A9-9B0D-4134DA42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202C7C-7975-40C9-87FE-9773442F1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0A383C1-0DD9-4571-A7DA-37065E60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CD43120-DFD9-48DF-A4D1-1C826D83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EC0F4C8-28C5-4EF7-A3DD-91F99AF9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8A11DB-F18C-49F2-806F-24872D9E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91DE5B-313D-4A5E-A719-D9622A02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26BBCB-1507-40C0-B548-4D885A8D7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9727B9-C5E9-408B-9FAD-53D986713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F828A-B43F-4BCE-830F-DFEF45ED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45314-4BD7-481E-9FA1-69571F44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E32D9-BA76-4C85-AEC7-1C966A9C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1A9AE0-6657-4C07-9ABB-8BE1B2D03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4C1101-D13D-4173-AEAB-FE4E228A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B72A8-2240-4532-A9B1-511A77FB8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9028F7-D6F9-43C9-916E-1114980C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5D051-9B7E-4008-AAA1-05F0EA99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8DD95A-1345-4CFE-B7DD-C95C0C04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F95EF9-9224-448C-A336-4C4A31B5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A1677F-E801-4FB7-B130-A9BAEB2F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2AFE0-08F5-4EAA-B6DC-0AA35886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263F62-5D14-4C07-8690-85656A8FC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5BE158-D5ED-47DA-9C9C-77D3CD0C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FE04FB-E187-4C9C-BFB9-64EC675CC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5A98BB-2373-4022-9EC5-6CB74183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AD3FE0-0670-4940-8F93-E5E572D9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B5F9D-E3B9-4651-B2AE-A380C818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57E426-E8C2-42AA-8F08-1AA1448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8F5131-288E-4E69-BAE2-E9BC4585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E073A2-356B-4011-9455-E48EE182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7156E-FB74-40E1-B08E-E17BD975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BA0EF-523C-40AC-B16E-618585AD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CC91B0-031E-4EFD-92B0-07BDD6B74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5A0869-31E7-4F0F-9382-DD3CF5E3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E10CE1-C056-45C7-95CB-A33FCD15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9F9A29-B7D5-4C19-81AA-B7B67E25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59AFC3-037D-48F7-951D-98D3B810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97D4C0-ABAC-41D3-B04A-198DF59C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25711A-D5BB-4A9B-B7A1-B0BD3AAA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EA864C-3BDB-4302-B94C-6EC22677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79D-9E44-49CB-B3D2-DC7EF66E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1DDAB6-474A-450D-A9C7-2DE24F7D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7E87BC-5D06-416D-A7EA-BD1A0BDF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82ED91-15EC-4935-8CC8-3D78A0C1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EA841-C42A-4F84-9DB9-A2F41BEBC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AA216F-6A80-4678-A571-D131D8BC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C50FE3-093B-4D42-915D-0F4E1DE89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108D7-64D3-4098-B570-9C81F925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B52FDE-A9CD-4CB9-A082-49C26525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91ADE-6F24-4B2A-A180-7D07A30A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84644-E6C0-4D5E-BDE5-FF01D012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3B48B-B610-45C3-94DB-FA9AC032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65C61-1C9B-4E28-A53C-25534B79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0F6F3-A437-4716-8BDE-F2FF1ADE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1BADAF-46D4-440A-9A4C-E62CAC3F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71BF09-F3B3-47C1-A85D-673A90E2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608F75-EC25-48A6-AC63-B4936DD27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17C825-652E-4874-84C4-797E3F82C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302A9A-8201-4A3E-9B92-4406757C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E2114-D8E9-4CB9-B14D-351DC6C3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6E096-98A7-46BF-9EA4-A56338F5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BDEBD9-223C-43E9-8C1B-62CDC769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B25B81-D46A-4656-964D-3DC190B0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14E291-E31D-4736-BF9B-65FC1F79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FE817F-1427-48A7-8CF1-52E6B33D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AD7B5C-4C17-42CD-8BE2-951BE2E9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5EE943-445D-4EF0-A212-8526E420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FB691-577C-46DD-92FC-F1CEA7FF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E7DD3A-0587-43ED-8677-D7A9DFC2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5291D-C3D8-4CEF-9D63-E9AF6F467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534A16-2B1A-4A8B-8164-E8A3E17E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E7B8C3-1CFE-4010-B3B0-A2B88273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1E1CE5-E47D-4E27-A30E-6907C4BE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7A5634-EC8C-4306-A873-B3971E3D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08120D-6DC0-4CAB-BA12-BD0F6659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C3AD53-4B32-4CD7-9703-1C95630A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90359-7C4C-4484-9947-C2DF1D0A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F1A3E0-2BC0-4D0C-ACCE-801C0949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A9A96A-28C6-42A6-90AD-655030E9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1DE512-1EE7-40A9-A08E-5858D0EB8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6AB2F0-C59C-4268-93E1-3352F1CD0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F072A6-F495-426D-97CE-706F08BB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2861E5-872C-448F-906B-447848A2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70675-7119-463C-B66F-768BD708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CE5065-3426-4876-B1B4-2DECAEF23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CEF0CF-EAF1-41A7-AC73-18CB6266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60EDE7-D8FD-4380-A4EE-A39CC090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53EE70-02A7-4FA2-AC7D-4EEFB382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1CBEE-4D0A-4EC3-84DD-B2944EFD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776B75-6FDD-4D4A-95F3-153BD272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99BE0F-8CE6-4D19-A59D-F70C605E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1B7A9-67CE-4572-8C89-F27050C7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20F9B3-969E-4036-B17D-7ADA47C7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A532B-9F13-4969-9509-FFCB2075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7A480-D910-4D02-9CF5-1AB0E600F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8FF88-AC15-41C6-9297-1ADC5797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7AE619-313D-4203-A4B0-64292748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DAB3B3-2EFE-4593-948E-22D03514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D4E29-1D55-4AD8-B35D-F92E6002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5D2B-3EC3-4F4E-9542-14DC9C84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D2801-F38C-4249-A122-7137177C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8D473-1D9D-4C41-B4AC-913D9EA5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D82E4-5AFA-4063-870B-EDCE089F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7DEE37-17B4-458F-BF59-003B63BA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56B2B-2103-476B-ADEE-AB52A7EEA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16D08E-488C-45D5-9B08-46E727F0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CE5F15-EEAF-4618-A22E-4C4B78DD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B2D1E-B873-48FE-B845-592576AC5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4FFC6-CED4-437B-93C4-4558E03D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D099A-2338-4DAE-AB8D-002AB7DB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40F1-5E40-40AC-9CDB-26CD99BCF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25920-E3D3-4FDA-BA0C-D89E5A77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23FE9-F17B-4412-B484-640D6763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C50E6F-C2CB-4CF6-BC27-9FF0CF4A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F6445-2AA3-445C-B96B-67A9DD22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FF8F5-29BC-49D4-9333-36B3B0321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81FEE-43D2-42A3-AB53-7C987B7C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4AAAE-28F3-4CD6-AC02-16B5573F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825749-E762-43D9-BE28-4BB28D8AE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04DD92-83E5-4D20-AC63-4659B89F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EB0-E142-4461-A8FF-AE7D998E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2D7A-B7DE-4318-9B64-0CE87C4E4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D2F35-C400-426C-B28F-16D81F20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055A7B-3539-44ED-90BF-8BE545A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044FF0-C809-4931-9EEC-2ECCFABDA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F6257B-0FF0-4BE1-AF3B-6C8139D4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4E5E6A-1477-46A6-8BAC-BF9EC5162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6EB62-FB75-4AE1-BDF8-1871BA93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EBD1AD-96C6-49BC-8128-8FC4095B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BFCA83-D7DA-4B0E-8B0F-AC40956F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13F880-DB71-473E-B701-352492E5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0AA8-A804-4BA6-B9C4-80D29EE9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430B51-A2CC-47D4-BAEA-C807501A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6B1A97-105A-4DA3-8CD5-F6617B70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CE7F29-B07F-452B-8A1B-25CAB181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77696E-D0B4-4CBA-A8E7-CFD1C738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24E4F8-EAB3-4E71-B646-3DF2BD0E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487795-33FF-429C-9702-00C9519E5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A60AB53-F23C-4E03-A458-2A6ACDB9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8B138E-C100-4105-92C2-CB3EB391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D93A09-0C44-4675-83DD-7E98A596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BC6F7D2-F5BA-48D9-80D5-DFA0570B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2975-1007-441B-B049-A02FC27D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D3071D-22E9-47D8-A016-595C7075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70E519-F358-44E3-93DB-8039C404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3A0B0F-F39C-43DF-A0CA-B8908ECE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76C3D8-1336-48F9-835F-6BBE6CBE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711141-F3A0-4640-A6E6-31320EACD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D39151-B057-4520-853A-890E01765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E3B219-5FE2-419C-A27B-5DD8DD6C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B1EC00-FE8B-458C-A27D-4237EE46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3CF338-47BF-4AE4-8259-9F92B1D4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EA0EB7-D2DB-4C5B-AEA5-5D0E18E1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610E-8405-482A-B830-94247E71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67C070-C568-40EA-B1E4-FCC85D47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C99F4D-1A8F-4A12-A466-E7D6206F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9EFBBD-D74A-4759-AFC9-C93DEEA2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B865EC-C96C-40A9-9937-9D4E311A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CC111A-4953-4565-B420-CFE5558F4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586114-4977-4CAF-BB43-3F6C91777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7E145F-09E7-42CB-966C-86077468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CA510-8D15-4FEA-95B7-679DF903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FC201-7949-4A6D-9F5E-0573F20DD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A9A1FB-F8B7-45EE-BB8B-BBC57EE1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DBE65-4187-4ACA-AB2C-32FC76DC678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4DE35B-D2D8-4E28-9868-8BF822C3D1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CEE1B2-DBBF-4743-B60B-7F12DD10308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F18A8-2381-43FF-9DAC-A79A084E76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B83431-C71E-416A-A68E-6597C8388AEC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5134BF-F7E3-4E25-A9FD-9191E1441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A0C531-75D2-4FCD-A9BF-315826C0280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5E2ED7-4F6A-4C57-A1F0-FE497E360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B4EE4-0CC8-4FC0-A4C9-436FE3290E6C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CC315-FC0B-4D41-B132-17D0D539F7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E1688E-E620-465C-9F83-47F02F91B60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1C533D-7094-4E7A-B0AE-63D29DA9A1B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4F70F0-1AC4-4019-9C18-00A945D44A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4936E2-62C2-4579-BE9C-6CB5070F700C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1D591F-6733-4EAD-8E38-1F8E76FE55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286208-874B-401E-84A4-F5CA4A117680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A04B2-1A1D-4AD3-92E8-53FDC8E6A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983DE-79A5-4712-92DA-7E6EBABB1547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661BA-73A7-48F6-BA13-8511FE6A21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FDCCED-2BCF-4468-958F-53F1DCAD2D14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89E2F8-1D57-4B3F-BC44-E521B4D14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11204-B0CB-420A-86CD-BFCB8C51A583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70EEE-298A-4D14-BEA8-38385A43B51D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65FE3A-8D05-4FA4-9D46-228BC7DF2A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6679B4-9CCA-4487-BC77-C4548C393F6C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4ECF0-C923-45F5-A3C9-9ED380C57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D2D294-F333-446F-A72E-600BDA1D6267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5FDF29-7D4A-494C-BB18-6CE0A78850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8F839-0EED-44B4-8938-E7EC1DFA916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9B6F4D-D46E-4030-99FF-C50AFC91A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03FCD-52BA-425B-B46B-F8619648C8C3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71A85-4339-44FD-8034-C55B49487B4B}" type="datetime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1E6C33-5B2C-4479-B2F4-2B23F8FFFA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AD44E-90ED-4AF9-9A78-9516F62D1452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4398A7-A083-4B4A-8F37-3C7969DB5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5FF73B-D416-40BD-8610-1D5E8D1D24CF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537D7-624D-42D2-A857-D8F0CEB3DB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C768A-9381-4541-A8C9-99C162E56AA8}" type="datetime"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CAAFA-B51E-4551-AB13-AC14A37FA4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focusonforests.org/large/westafricamap.htm" TargetMode="External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Life in West Africa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Mr. Rush/ Mr. Farrell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Go Muskies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est African Map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bc5fbc"/>
                </a:solidFill>
                <a:uFillTx/>
                <a:latin typeface="Rockwell"/>
                <a:hlinkClick r:id="rId1"/>
              </a:rPr>
              <a:t>http://www.focusonforests.org/large/westafricamap.htm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hat did you learn?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What did you learn about West African. . .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aily Life/ Poverty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ulture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Treatment of Family/ Elderly/ Stranger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Food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Relig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Governments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6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ducatio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West African Lif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496800" y="2447640"/>
            <a:ext cx="3657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Listen to Speaker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Ask questions of the speaker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Compare/ contrast the speaker and Ishmael Beah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Develop 3 questions for further study. 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4400640" y="2447640"/>
            <a:ext cx="3657600" cy="36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Rockwell"/>
              </a:rPr>
              <a:t>Explain how political and economic conditions, resources, geographic locations and cultures have contributed to cooperation and conflict. 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6800" y="2070000"/>
            <a:ext cx="3657600" cy="324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tIns="0" bIns="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What you will do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400640" y="2070000"/>
            <a:ext cx="3657600" cy="324000"/>
          </a:xfrm>
          <a:prstGeom prst="rect">
            <a:avLst/>
          </a:prstGeom>
          <a:solidFill>
            <a:srgbClr val="a3a3c2"/>
          </a:solidFill>
          <a:ln w="0">
            <a:noFill/>
          </a:ln>
        </p:spPr>
        <p:txBody>
          <a:bodyPr tIns="0" bIns="0" anchor="ctr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Rockwell"/>
              </a:rPr>
              <a:t>What you will learn</a:t>
            </a:r>
            <a:endParaRPr b="0" lang="en-US" sz="18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66"/>
                </a:solidFill>
                <a:latin typeface="Rockwell"/>
              </a:rPr>
              <a:t>How does life in ___________ compare with Ishmael Beah’s life in Sierra Leone?</a:t>
            </a:r>
            <a:br>
              <a:rPr sz="3200"/>
            </a:br>
            <a:endParaRPr b="0" lang="en-US" sz="32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1)  What are 3 similarities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2) What are 3 differences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3)  What are 2 things you still want to know about life in West Africa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4)  Would you want to visit?  Why or Why not?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20:26:00Z</dcterms:created>
  <dc:creator>Craig Rush</dc:creator>
  <dc:description/>
  <dc:language>en-US</dc:language>
  <cp:lastModifiedBy>Craig Rush</cp:lastModifiedBy>
  <dcterms:modified xsi:type="dcterms:W3CDTF">2011-01-17T20:35:36Z</dcterms:modified>
  <cp:revision>1</cp:revision>
  <dc:subject/>
  <dc:title>Life in West Africa</dc:title>
</cp:coreProperties>
</file>